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7320" y="2387160"/>
            <a:ext cx="11430000" cy="2908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7320" y="5397120"/>
            <a:ext cx="11430000" cy="31878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t">
            <a:normAutofit fontScale="9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1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2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3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4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5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6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1269720" y="1727280"/>
            <a:ext cx="10464840" cy="706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73152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29852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84716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2411640" indent="-58320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96028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96028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96028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4772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32732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88820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2465280" indent="-59616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02616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02616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02616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3568320"/>
            <a:ext cx="11430000" cy="2908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7320" y="7543800"/>
            <a:ext cx="11430000" cy="1689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76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13004640" cy="9753480"/>
            <a:chOff x="0" y="0"/>
            <a:chExt cx="13004640" cy="975348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004640" cy="97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4"/>
            <a:stretch/>
          </p:blipFill>
          <p:spPr>
            <a:xfrm>
              <a:off x="6832440" y="2222640"/>
              <a:ext cx="4724640" cy="605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4600" y="2476440"/>
            <a:ext cx="6248160" cy="28195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7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44600" y="5397120"/>
            <a:ext cx="6248160" cy="25146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t">
            <a:normAutofit fontScale="6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1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2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3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4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5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6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447920" y="3124080"/>
            <a:ext cx="463536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496440" indent="-3837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926280" indent="-3855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340640" indent="-38520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76580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671400" indent="-5194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253160" indent="-5216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813680" indent="-521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2388960" indent="-5198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950200" indent="-5198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950200" indent="-5198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950200" indent="-5198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447920" y="3124080"/>
            <a:ext cx="463536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496440" indent="-3837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926280" indent="-3855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340640" indent="-38520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76580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051400" y="3124080"/>
            <a:ext cx="368316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2000"/>
          </a:bodyPr>
          <a:p>
            <a:pPr marL="452520" indent="-3499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844560" indent="-3513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222200" indent="-35100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609920" indent="-350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1987920" indent="-350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1987920" indent="-350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1987920" indent="-350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87320" y="2387160"/>
            <a:ext cx="11430000" cy="2908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Gender Differences in Behavior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87320" y="5397120"/>
            <a:ext cx="11430000" cy="31878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Ita"/>
                <a:ea typeface="Stone Sans ITC TT-SemiIta"/>
              </a:rPr>
              <a:t>Biology or Culture?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Gender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Why are most males more aggressive than most females?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Why do women enter “nurturing” occupations such as nursing in far greater numbers than men?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Does the biological difference control our behavior?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866600" y="107964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ulture is the answer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2400120"/>
            <a:ext cx="10464840" cy="671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men and women had similar roles in earlier societies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ocial arrangements determine the types of work men and women do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biology only affects reproduction and body structures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aggression is not a biologically dictated male behavior since female crime rates are rising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59" name=""/>
          <p:cNvSpPr/>
          <p:nvPr/>
        </p:nvSpPr>
        <p:spPr>
          <a:xfrm>
            <a:off x="10665000" y="3676680"/>
            <a:ext cx="2336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Cynthia Epstein</a:t>
            </a:r>
            <a:endParaRPr b="0" lang="en-US" sz="18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Biology Is the Answer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3009960"/>
            <a:ext cx="1046484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811800" indent="-60876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Inborn differences give masculine and feminine direction to emotions and behaviors of men and women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marL="811800" indent="-60876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records show that all societies are patriarchies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marL="811800" indent="-60876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highest statuses are associated with men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marL="811800" indent="-60876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Male dominance is a reality to acknowledge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62" name=""/>
          <p:cNvSpPr/>
          <p:nvPr/>
        </p:nvSpPr>
        <p:spPr>
          <a:xfrm>
            <a:off x="10156680" y="2673360"/>
            <a:ext cx="2845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Steven Goldberg</a:t>
            </a:r>
            <a:endParaRPr b="0" lang="en-US" sz="18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